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15B9-65C4-49AD-89F4-2B668076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7934-463E-44AD-AC91-7A20397D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1565-D0DA-4529-BC7D-3F22FB95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504D-3499-4A4C-BD24-957B7947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0B8-6B3B-4A69-B02A-C0D54F72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15D6-2005-4F34-B339-C6492A8C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4EA2-6E53-43FD-B59A-49336DC0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B822-5073-46D5-BAC3-11180F14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1837-6431-42E2-ACBD-77EE01E7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62F1-2FE0-48F0-8371-D008D0DC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6C10-2359-409F-A7D4-92152C24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E6D8-C959-4642-B6A5-A429B068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DBF5-1DEA-4D37-88CA-660FBCE0EC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vezetés a programozásb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. Szokásos hibá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Nem teljesen tisztázott felad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Nem egyértelmű fogalmak (pl. második legnagyob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Félrevezető szöveges leír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Áttekinthetetlen megfogalmaz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A hogyanról szól a mit helye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lgoritmusok kódolása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. Az algoritmus leírás finomításának mélysége (a programíró felkészültségének függvényéb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eljesen részle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Programozási tételek szintjéig (pl. Keresés(N,X,páros,VAN,S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Modulspecifikáció szintjé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I. A programozási nyelv választásának szempontjai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. Lehetős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2. A programkészítő ismeri-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3. Megbízhatóság, dokumentáltsá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4. Könnyű alkalmazhatóság (megfelelő nyelvi eszközö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5. Hatékonysá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6. Modularitás, más nyelvű részek lehetnek-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7. Hordozhatóság, nyelvi állandósá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II. Kódolási szabályok (tetszőleges nyelvre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. Értékadás (struktúra, részstruktúra, párhuzam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2. Beolvasás (kérdés, ellenőrzés, struktúra beolvasás), kiírás (pozícionálás, formátum, struktúra kiírá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3. Elágazások (mi van, ha nincs különben-á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4. Ciklusok (ciklusok egymásba alakítás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5. Eljárások, függvények (mi van, ha nincs paraméter; függvén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V. Program transzformáció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. Nem megengedett elágazás feltételek (logikai változó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2. Nem megengedett ciklusfeltételek (logikai változ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3. Szimmetrikus logikai művelet a ciklusfeltételben (típusbővítés, feltétel kiemelés, lé­pésszám csökkenté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4. Nem megengedett párhuzamos értékadás (segédváltozó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5. Szekvencia két tagjának felcserélése (feltétele: függetlensé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6. Ciklusváltozó növelése és ciklusmag felcserélése (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7. Nem megengedett sokirányú elágazás (elseif szerkez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8. Függvény helyettesítése változóval (ha többször kellene kiszámolni az értéké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9. Nem megengedett függvényérték típus (eljárássá alakítá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gramozási nyelvek osztályozá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. Amatőr és professzionális programozási nyelv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I. Emberközelsé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II. Számítási modellek (az az absztrakt modell, ami alapján az algoritmusokat végre kell hajtan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. Amatőr és professzionális programozási nyelve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atő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ktivi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yors nyelvi fejlőd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k nyelvi e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yszerű programszerkez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ális gépi tulajdonság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rofesszioná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odulari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tabil nyelv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evés nyelvi e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ok lehető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gépfüggetlenség, átvihető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I. Emberközelsé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acsonyszintű nyelv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den lehetőség (HW,SW) kihasználhat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zimbolikus utasítás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zonosít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ímkené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ró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ktívá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thelyfoglalás, defini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épi nyelv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den lehetőség (HW,SW) kihasználhat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ó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óriací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óriací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I. Emberközelsé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agasszintű nyelv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feladatorientál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áltozó=tartomá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ifejezés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íp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ágazás, cik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jár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aramétere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acsonyszintű nyelv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éporientál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áltozó=kezdőc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ltételes vezérlésátad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járáshívás, visszatér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III. Számítási modellek </a:t>
            </a:r>
            <a:br>
              <a:rPr sz="2800"/>
            </a:b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(az az absztrakt modell, ami alapján az algoritmusokat végre kell hajtani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. Neumann-elvű nyelvek     ( Neumann-elvű számítógé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. Elképzelések, tulajdonság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emória, címezhető (sorszámma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 program és az adatok a memóriában vanna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 végrehajtás memóriaállapotok sorozata, állapottér (adatok tere), koordináták, programfüggvény: állapottér</a:t>
            </a:r>
            <a:r>
              <a:rPr b="1" lang="hu-HU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állapottér, konkrét állapot=pon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 program leírása szöve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2. Következmény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van változ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van értékad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utasítások ismételt végrehajtása lehetséges (ciklus, GOT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lágazás (GOT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beolvasás: memória másolás (ld. C64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iírás: memória másolás (képernyő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3. A jelenlegi számítógépek ilyenek, s ezért a nyelvek jelentős többsége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. A problémamegoldás lépései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tapélda: házépít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 az, ami látszi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 az, ami ténylegesen mögötte v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Igényfelmérés (szempontok: család mérete, elképzelése, pén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ervezés (alaprajz, anyagigén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Szervezés (ütemterv vagy vállalkoz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Építkezés (anyagbeszerzés, kivitelezé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Használatba vétel (szemrevételezés - szépség, kipróbálás - jósá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Beköltözés, bentlakás (módosítgatás, újabb hibák, 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III. Számítási modellek </a:t>
            </a:r>
            <a:br>
              <a:rPr sz="2800"/>
            </a:b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(az az absztrakt modell, ami alapján az algoritmusokat végre kell hajtani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B. Automata-elvű nyelvek    (</a:t>
            </a:r>
            <a:r>
              <a:rPr b="1" lang="hu-HU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ipari robot, pl. festőautoma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1. Elképzelések, tulajdonság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z adatok állapotok, illetve bemenetek – fix felosztású memória (pl. festőkar he­lye, fest-e, ...): állapotté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végrehajtás egyszerű állapotok soroz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program egy állapotátmenet-függvén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program elkülönül az állapotoktó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tevékenységorientáltság (állapotváltoztatá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2. Következmény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z utasítások általában egy állapotkomponenst változtatn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változó, értékadás nincs (csak névvel ellátott állapotkomponense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sak primitív (állapot-, vagy paraméter- vagy érzékelőállapot-függő) ciklusok ír­ható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állapot-, vagy paraméter vagy érzékelőállapot-függő elágaz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utasítások paraméterezhető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beolvasás: paraméterezés, állapotlekérdezés, érzékelő állapo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kiírás: állapotváltozás nyo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párhuzamossá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3. Példa: LOGO grafikai része, ipari robotok nyelv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III. Számítási modellek </a:t>
            </a:r>
            <a:br>
              <a:rPr sz="2800"/>
            </a:b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(az az absztrakt modell, ami alapján az algoritmusokat végre kell hajtani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Funkcionális nyelvek     ( analíz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Elképzelések, tulajdonság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program egy függvé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mória nin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végrehajtás függvénykifejt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rős matematikai kidolgozottsá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Következmény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áltozó, értékadás nin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onstansok = konstans függvény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üggvénykompozíci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klus nincs, helyette rekurzív függvények lehet ciklus, ha léteznek a programon értelmezett függvény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ltételes függvény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üggvényargumentum v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olvasás: speciális függvé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iírás: a függvény eredménye, esetleg speciális (mellékhatással rendelkező függ­vén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Példa: LOGO szövegkezelő része, (FORTH,) LI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III. Számítási modellek </a:t>
            </a:r>
            <a:br>
              <a:rPr sz="2800"/>
            </a:b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(az az absztrakt modell, ami alapján az algoritmusokat végre kell hajtani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D. Logikai nyelvek          ( matematikai logik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1. Elképzelések, tulajdonság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program egy logikai formula (általában nem lehet teljesen általános formula: megszorítások!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program végrehajtása a logikai formula kiértékelé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rős matematikai kidolgozottsá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formulákban szerepelhetnek paraméter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program és az adatok nem különülnek el (minden adat egy azonosan igaz for­mul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Példa: szülője, nagyszülőj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2. Következmény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incs változó, értékad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zekvencia = és, elágazás = va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nincs, helyette rekurzív formulá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vannak feltételes kifejezés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lemi utasítás: mintailleszté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beolvasás, kiírás: mintailleszté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lehetőség új formulák létrehozására (új utasítá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kiértékelési algoritmus: backtrack csak a MIT? kell leír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3. Példa: PROL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III. Számítási modellek </a:t>
            </a:r>
            <a:br>
              <a:rPr sz="2800"/>
            </a:b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(az az absztrakt modell, ami alapján az algoritmusokat végre kell hajtani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. Adatfolyam nyelvek           ( csővezeté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F. Objektumelvű nyelvek    ( emberek csoportj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1. Elképzelések, tulajdonság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objektum = szerkezet + eljárások</a:t>
            </a: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 típ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az adat és a kód nem választható el egymástó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(adatdefiniáláskor jönnek létre az őt kezelő eljárások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objektumtípus=osztály </a:t>
            </a:r>
            <a:r>
              <a:rPr b="1" lang="hu-HU" sz="12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 típust megvalósító modu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hivatkozás: objektumtípusú változó.eljárásnév, objektumtípusú változó.mezőné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az objektumok üzenetekkel (eljárások) kommunikálnak egymással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eseményvezérelt programozás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öröklés: az új objektum egy másik objektum összes jellemzőjével rendelkezik, il­letve ehhez újakat is definiálha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típusszármaztatás (láthatósági kérdése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az örökléssel objektumok hierarchikus rendszere alakítható ki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csak értékszerinti paraméterátadás lehe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dinamikus objektumokhoz (mutató) meg kell adni egy konstruktort és egy dest­ruktor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2. Következmény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az objektumok (tárgyak) önálló életet élő dolgo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az eljáráshívás a legfontosabb fogal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olyan objektumnak lehet értéket adni, amely ilyen eljárást közöl magáró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3. Példa: Turbo Pascal 6.0, Visual BASIC, Smallt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ffff00"/>
                </a:solidFill>
                <a:latin typeface="Arial"/>
              </a:rPr>
              <a:t>Neumann elv</a:t>
            </a:r>
            <a:r>
              <a:rPr b="1" lang="hu-HU" sz="4400" spc="-1" strike="noStrike">
                <a:solidFill>
                  <a:srgbClr val="ffff00"/>
                </a:solidFill>
                <a:latin typeface="Arial"/>
              </a:rPr>
              <a:t>ű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nyelvek elemei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ff"/>
                </a:solidFill>
                <a:latin typeface="Arial"/>
              </a:rPr>
              <a:t>I. Adat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Arial"/>
              </a:rPr>
              <a:t>1. Elemi adattípuso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(integer, char, real, boolean, complex, byte, double precision, long­integer, wor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Arial"/>
              </a:rPr>
              <a:t>2. Felsorol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(konstansok átlapolhatók-e vagy s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Arial"/>
              </a:rPr>
              <a:t>3. Altíp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(részhalmaz kijelölés logikai formulával, részintervallu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Arial"/>
              </a:rPr>
              <a:t>4. Származtatott típ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(azonos értékhalmaz, de nem keverhe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eumann elvű nyelvek elemei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5. Muta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beépített típ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POKE cím,by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6. Összetett adattípusok (tömb, szöveg, rekord, halmaz, unió, fi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rekord: szelektorok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Pascal,ELAN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változónév.mezõné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COBOL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mezõnév IN változóné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konstrukciós mûvele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ELAN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[mezõ,mezõ,...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unió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C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COBOL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REDEFI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FORTRAN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EQUIVAL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tömbindexek: 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általában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 &gt;=0 (1) és egés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 véges típ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konstrukciós mûvele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ELAN1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[elem,elem,...]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ALGOL68,Ada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400" spc="-1" strike="noStrike">
                <a:solidFill>
                  <a:srgbClr val="ffffff"/>
                </a:solidFill>
                <a:latin typeface="Arial"/>
              </a:rPr>
              <a:t>– résztömb müvelet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ffff00"/>
                </a:solidFill>
                <a:latin typeface="Arial"/>
              </a:rPr>
              <a:t>II. Utasításo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Arial"/>
              </a:rPr>
              <a:t>1. Értékad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értékmásolás: minden változóhoz más memóriac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értékmegosztás: minden értékhez más memóriac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Többszörös értékadás (pl. C: A=B=C,PL/I, FORTR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Párhuzamos értékadás (pl. A,B:=B,A, ld. Z80: EX DE,HL, CL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Fej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dés: tetsz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leges (típusú) változó, konstruktor (kivétel sokszor: f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Feltételes kifejezés (Pl. ALGOL60, ELAN: A:=if X&lt;Y then Y else 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Feltételes értékadás (Pl. ALGOL68: if A&lt;B then A else B :=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Arial"/>
              </a:rPr>
              <a:t>2. Elágazá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if then 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c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elágazás záró utasÍtás: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F77,ELAN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END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ALGOL68,ELAN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F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"csellengõ else„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Ada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ELSE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ELAN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EL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a feltételnek lehet mellékhatá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sokirányu elágazás: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C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FORTRAN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kiszámitott GO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BASIC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ELAN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SEL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nemdeterminisztikus elágazá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when A&lt;=B the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when A&gt;=B the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nemszimmetrikus logikai mûveletek (optimalizált végrehajtás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Modula-2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and, 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Ada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and then, or 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00"/>
                </a:solidFill>
                <a:latin typeface="Arial"/>
              </a:rPr>
              <a:t>3. Ciklu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WHILE bentmaradás feltétele DO ciklusm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REPEAT ciklusmag UNTIL kilépés feltét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n-s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Ciklusvég:   ENDDO, OD, ENDWHILE, ENDF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Felsorolás:  ALGOL60: for i:=2,3,5,7,11 do utasit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Pascal: absztrakt felsorolástíp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Kilépés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C: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continue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– goto ciklusvé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break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– goto ciklusvég mögé (ki a ciklusbó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Modula-2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exit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– goto a ciklusvég mögé (ki a ciklusbó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Ciklusváltozó: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általában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– egész, néha való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– diszkrét típ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Ada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– a ciklusra lokál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ALGOL60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– tömbelem is leh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00"/>
                </a:solidFill>
                <a:latin typeface="Arial"/>
              </a:rPr>
              <a:t>4. Input-outpu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Ninc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ALGOL6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Termin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írás, olvas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pozícionálás + egyebek (ESC-szekvenciák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nyitás, zárás, írás, olvasás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text, szekvenciális, indexelt, dire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file vége kezelés: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EOF függvé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FORTRAN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END=cimke (olvasá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BASIC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– Statusz változó, ONERRORGO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FORMAT, USING, PI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Nincs, hanem PREDEFINIT mûveletek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Modula-2, ELAN, 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Arial"/>
              </a:rPr>
              <a:t>Milyen típusú adat írható, olvasható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elemi típ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saját (elemi) típ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ff"/>
                </a:solidFill>
                <a:latin typeface="Arial"/>
              </a:rPr>
              <a:t>tetszõleges típ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I. A programkészítés folyama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. Specifikálás (miből?, mit?)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specifikáci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2. Tervezés (mivel?, hogyan?)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dat- + algoritmus-leír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3. Kódolás (a gép hogyan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kód (reprezentáció+ implementáci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4. Tesztelés (hibás?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hibalista (diagnóz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5. Hibakeresés (hol a hiba?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hibahely, -ok (teráp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6. Hibajavítás (hogyan jó?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helyes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7. Minőségvizsgálat, hatékonyság (jobbítható?)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jó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8. Dokumentálás (hogyan működik, használható?)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sználható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9. Használat, karbantartás (még mindig jó?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évelő (időtálló)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00"/>
                </a:solidFill>
                <a:latin typeface="Arial"/>
              </a:rPr>
              <a:t>5. Eljárás, függvény, operáto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Elkülönítés a program többi részétõ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Paraméterátadás (cím, név, érték, eredmény szerint), meg lehet mondani, milye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– var, érté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ELAN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– VAR, CON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CDL2,Ada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– i, o, i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Problémái: álnév, globális változó használ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Számuk, azonosításuk módja: sorrend szerint, név szer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Paraméterek feltételezett érté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Lokális változó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BASIC: GOSUB sorszám, nincs fizikai vége és kezde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ELAN: finomítás:  nincs paraméter, nincs lokális változ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Függvény: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BASIC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– DEFF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FORTRAN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– utasításfüggvé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Pascal, E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Operátor: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E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Mellékhatás problémá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A függvény értéktípusa sokszor elemi típusokra korlátozott (kivétel: ELA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Paraméter lehe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változó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(Pascal, ELA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függvény, eljárás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(Pascal, ELA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típus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a-DK" sz="1200" spc="-1" strike="noStrike">
                <a:solidFill>
                  <a:srgbClr val="ffffff"/>
                </a:solidFill>
                <a:latin typeface="Arial"/>
              </a:rPr>
              <a:t>(Ad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6. Modul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Modula-2: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Specifikációs mod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Implementációs mod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EXPORT, IMPORT, eljárások elrejt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ELAN: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PACKET név DEFINES eljárás és típusnev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Turbo Pascal: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7. Specifikáció a programszövegb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Euclid: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Proc ...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Pre ...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Post ...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begin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gramozási tételek: sorozathoz érték rendelése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 másol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üggvénytáblázat, nagybetű-kisbetű konverzió, szótagok hangrendje, vektorok össze­adá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sorozatszámít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i bevétel, kiadá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évi összeg, autóversenyző körönkénti idej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átlagkör, N!, szakkörök névsora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zakkörre járók névsora, szavak sorozata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nda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eldönté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ím-e, hónapnév-e, bukott-e, van-e sziget, monoton növekvő-e, kitűnő-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gramozási tételek: sorozathoz érték rendelés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kiválaszt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i bevétel, kiadá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lyik volt pozitív, 1 év hőmérséklet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kor nem fa­gyott, hónapnév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rszám, legkisebb oszt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(lineáris) keres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i bevétel, kiadá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lyik volt negatív, menetrend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onat átszállás nélkül, va­lódi osztó, horgászok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0 kg-osnál nagyobb halat fogó, bajnokság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ndent nyerő csap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gramozási tételek: sorozathoz érték rendelés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megszámol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aládi jövedelmek, létszámo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étminimum alattiak száma, osztók száma, ma­gánhangzók száma, bajnokság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% felett van-e a többsé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maximum kiválasz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i bevétel, kiadá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egjobb hónap, legrosszabb hónap, kórházi betege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eglá­zasabb, legmelegebb nap, névsor első embe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kiválogat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emélynyilvántartá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 évnél fiatalabb lányok, N osztói, magas hangrendű sza­vak, menetre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ikor vannak vonatok, jeles átlagú tanulók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gramozási tételek: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rozat(ok)hoz sorozat(ok) rendelés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. szétválogatá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átékok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típusok szerint (autók, babák, társasjátékok, kártyák), fiúk–lányok, páro­sak–páratlanok, lázasak–egészségesek, jeles–jó–közepes–elégséges–elégtelene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2. metszet (közös elemek kiválogatás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özös prímosztók, madármegfigyelés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nem költözők, horgászok halféléi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me­lyiket fogta mindenki, emberek szabad órái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mindenki ráé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gyesítés (unió: legalább az egyikben előforduló elemek kiválogatása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kkt prímtényezői, emberek szabad órái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valaki ráér, horgászok halféléi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mi­lyen halak vann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4. összefuttatás (rendezettek uniója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iúk, lányok névsora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osztálynévsor, osztálynévsorok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iskolanévsor, szakkör­névsorok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szakkörre járók névsora, időfutamok eredménye 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végeredmény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gramozási tételek: elemi rendezések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gyszerű cserés rend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inimum kiválasztásos rend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buborékos rend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gramozási tételek: keresése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ineáris keresé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ogaritmikus keresé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isszalépéses keresés (backtrack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. Algoritmusok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Utcai telefon használata: az algoritmus fogalma (mi algoritmus és mi nem a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végrehajtható (van hozzá végrehajt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lépésenként hajtható vég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lépések maguk is algoritmu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ontosan definiált, adott végrehajtási sorrend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gy folyamat véges hosszúságú, időben esetleg végtelen leírá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zörpautomata használ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gymásutáni végrehajtás, ismétlés (elöltesztelő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árhuzamosság, nemdeterminisztikussá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véges-végtelen ismétl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választás 2-ből, többő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választás egyből, ismétlés (hátultesztelő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választás nemdeterminisztikus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smétlés (számlálás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emdeterminisztikussá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I. Adato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ódavíz készíté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i és összetett adat (patron, víz; szif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menő, kimenő, belső adat (patron, víz; szifon; szódavíz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stans, változó (fej; patron, szif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tok és algoritmikus szerkezetek kapcsol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kt szorza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ekv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ágaz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kasá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klus, rekurz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fikálá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. Része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. Bemenő adatok (értékalmaz, mértékegység)+ összefüggéseik (előfeltét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2. Eredmények + kiszámítási szabályuk (utófeltét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3. A megoldással szembeni követelmény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4. Korlátozó tényező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5. A használt fogalmak definició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I. Tulajdonság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. Egyértelmű, pontos, telj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2. Rövid, tömör, formalizá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3. Szemléletes, érthet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fikálá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II. Specifikációs eszközö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. Szöveges leír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2. Matematikai megad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galma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llapottér: értékhalmazok direkt szorzata — A=BxCx...x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Állapot: az állapottér egy pont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áltozó: az állapottér projekciója — egy koordiná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eladat: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x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rogram: állapotsorozat (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xA**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rogramfüggvény: A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 (illetve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xA) (véges futások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goldás: a P program (p programfüggvénnyel) megoldja az F feladatot, ha DF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P és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F: p(a)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(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őfeltétel, utófeltétel, leggyengébb előfeltétel: ef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lf(P,u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Példa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(x</a:t>
            </a:r>
            <a:r>
              <a:rPr b="0" lang="en-US" sz="4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4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= z</a:t>
            </a:r>
            <a:r>
              <a:rPr b="0" lang="en-US" sz="4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1. Be: X,Y,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L:=(X</a:t>
            </a:r>
            <a:r>
              <a:rPr b="1" lang="hu-H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+Y</a:t>
            </a:r>
            <a:r>
              <a:rPr b="1" lang="hu-H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-Z</a:t>
            </a:r>
            <a:r>
              <a:rPr b="1" lang="hu-H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i: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2. Be: X,Y,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XX:=X</a:t>
            </a:r>
            <a:r>
              <a:rPr b="1" lang="hu-H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: YY:=Y</a:t>
            </a:r>
            <a:r>
              <a:rPr b="1" lang="hu-H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: ZZ:=Z</a:t>
            </a:r>
            <a:r>
              <a:rPr b="1" lang="hu-HU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L:=XX+YY-Z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i: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x</a:t>
            </a:r>
            <a:r>
              <a:rPr b="1" lang="hu-H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+bx+c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szöveges specifikáci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bemenet-kimenet leír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értékhalmaz (a=0 lehet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ogalmak: megold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bemenet változatlansá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nemdeterminisztikusság (adjunk meg egy megoldást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V. A specifikáció (programfüggvény) és az algoritmikus szerkezet kapcsol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0000" y="1743120"/>
            <a:ext cx="74170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7:25:32Z</dcterms:created>
  <dc:creator>Nagymáté Péter</dc:creator>
  <dc:description/>
  <dc:language>en-US</dc:language>
  <cp:lastModifiedBy>Nagymáté Péter</cp:lastModifiedBy>
  <dcterms:modified xsi:type="dcterms:W3CDTF">2004-03-25T09:26:33Z</dcterms:modified>
  <cp:revision>24</cp:revision>
  <dc:subject/>
  <dc:title>Bevezetés a programozásba</dc:title>
</cp:coreProperties>
</file>